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BE5D-0984-4024-8025-AA7316B2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169-4C23-4E3B-95A9-3D0D28DA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3C3A-176C-469F-A96E-F62F17FE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9DA-1FAE-430E-89FF-8517EFF1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BA40-C3B6-4DD8-9A65-AF428B27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BBE9-EE8E-4700-B6E3-889EEF6F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E408-DA06-45AD-B079-05AE1DB6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8F2-A7AC-4160-A13D-CE2D48F7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D2E7-B729-4DA7-BA9D-6370B408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975-A47C-45E0-8C77-A3AA22D1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4429-B2DD-4AFA-9D62-000B22EF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6C3-161F-4F5D-A2C7-885B8E8B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5173-F769-4778-9726-53C5F838FC0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412A-7F99-4E78-8EA1-87ACE3FBF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286B-FCA9-4B98-AC0C-E0F6D7BF573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8597-28A8-48DB-A885-F9B6E2EE0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4000" spc="-1" strike="noStrike">
                <a:solidFill>
                  <a:srgbClr val="660033"/>
                </a:solidFill>
                <a:latin typeface="Arial"/>
              </a:rPr>
              <a:t>Community Stratification using Livelihood Indicators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676520" y="60976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 and Amare Haileslas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9320" y="16002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in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eat at other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 (intervention targe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we “combine” metho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ory “follow-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usehol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 an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mpac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we develop participatory tools for benchmar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7553160" cy="5019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Familiarisation of key informan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capital asse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, N, S, H,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usehold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616040" y="1981080"/>
            <a:ext cx="7543800" cy="4876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Key informant interview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ducted on a group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 pilot site groups formed from existing sub-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nk indicators within capital asse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view indicator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28800" y="1676520"/>
          <a:ext cx="7162920" cy="4587840"/>
        </p:xfrm>
        <a:graphic>
          <a:graphicData uri="http://schemas.openxmlformats.org/drawingml/2006/table">
            <a:tbl>
              <a:tblPr/>
              <a:tblGrid>
                <a:gridCol w="1598760"/>
                <a:gridCol w="1197000"/>
                <a:gridCol w="1679400"/>
                <a:gridCol w="2687760"/>
              </a:tblGrid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rti La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ulu Nege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efa Woli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b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Strong family 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knowledge / ski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gree of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Confid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Age (dominant age grou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confidence in own 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Trai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Heal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Gender m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portion of productive family me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Age of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cess to training and new technolog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Special skills (e.g. carpen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Age m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session of special skills (e.g. thatching / carpente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Exper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session of farming knowledge and ski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 Gender mix in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experience ac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ealth status of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140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tio of males to females in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600200" y="1693800"/>
            <a:ext cx="7543800" cy="5164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Household interview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0 household heads / 49 consolidated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cators scor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and futur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0 – 45 minutes per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Benchmarking analysi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1905120"/>
          <a:ext cx="7924680" cy="1798560"/>
        </p:xfrm>
        <a:graphic>
          <a:graphicData uri="http://schemas.openxmlformats.org/drawingml/2006/table">
            <a:tbl>
              <a:tblPr/>
              <a:tblGrid>
                <a:gridCol w="1822320"/>
                <a:gridCol w="1525680"/>
                <a:gridCol w="1525680"/>
                <a:gridCol w="1525680"/>
                <a:gridCol w="1525320"/>
              </a:tblGrid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fo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graz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d avai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d br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838080" y="4267080"/>
          <a:ext cx="8077320" cy="2027520"/>
        </p:xfrm>
        <a:graphic>
          <a:graphicData uri="http://schemas.openxmlformats.org/drawingml/2006/table">
            <a:tbl>
              <a:tblPr/>
              <a:tblGrid>
                <a:gridCol w="1752840"/>
                <a:gridCol w="1581120"/>
                <a:gridCol w="1581120"/>
                <a:gridCol w="1581120"/>
                <a:gridCol w="158112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d knowledge /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of community lead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 in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der 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benchmark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00240" y="197460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ification masks important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1676520" y="2589120"/>
            <a:ext cx="6438960" cy="2114640"/>
          </a:xfrm>
          <a:prstGeom prst="rect">
            <a:avLst/>
          </a:prstGeom>
          <a:ln w="0">
            <a:noFill/>
          </a:ln>
        </p:spPr>
      </p:pic>
      <p:sp>
        <p:nvSpPr>
          <p:cNvPr id="105" name="Content Placeholder 2"/>
          <p:cNvSpPr/>
          <p:nvPr/>
        </p:nvSpPr>
        <p:spPr>
          <a:xfrm>
            <a:off x="1200240" y="6019920"/>
            <a:ext cx="7696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s for peer-to-peer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1981080" y="3325680"/>
            <a:ext cx="6438960" cy="1924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2286000" y="4094280"/>
            <a:ext cx="64389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Stratifica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01680" y="1983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al component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1219320" y="25909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ust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6858000" cy="382572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7" descr=""/>
          <p:cNvPicPr/>
          <p:nvPr/>
        </p:nvPicPr>
        <p:blipFill>
          <a:blip r:embed="rId2"/>
          <a:stretch/>
        </p:blipFill>
        <p:spPr>
          <a:xfrm>
            <a:off x="2771640" y="3263760"/>
            <a:ext cx="46674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Cluster characteristic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2209680"/>
          <a:ext cx="8229600" cy="3475080"/>
        </p:xfrm>
        <a:graphic>
          <a:graphicData uri="http://schemas.openxmlformats.org/drawingml/2006/table">
            <a:tbl>
              <a:tblPr/>
              <a:tblGrid>
                <a:gridCol w="1752480"/>
                <a:gridCol w="1295640"/>
                <a:gridCol w="1295280"/>
                <a:gridCol w="1295280"/>
                <a:gridCol w="1295640"/>
                <a:gridCol w="129528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t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d 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vestock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 : small rumin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y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te 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stock speci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d 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p speci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2T13:08:48Z</dcterms:modified>
  <cp:revision>100</cp:revision>
  <dc:subject/>
  <dc:title>PowerPoint Presentation</dc:title>
</cp:coreProperties>
</file>